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DC71-27D1-4D1F-9A4F-9006B3E527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2B8D-E777-4995-B59D-A9C94BE7F3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EB40-9F0D-48F7-99A1-D24EE3FF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3FE6-D6ED-465B-93D7-84398A1B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03F4-E7D4-4727-8C7E-65F1A95B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7777-8626-42F9-97A3-CA687534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861C-D0D5-42C4-8D1F-69E41F62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9C2A-0A16-4F9A-8812-72FA3838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2D1A-0001-4A70-A0A3-8BDDA72F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7F0E-DBB5-4C5A-8D50-C6481FFA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8E7C-2BF1-4AD7-B5FA-7E1FB986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E734-5F91-4CD7-9B70-664A451E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189A-6AF0-42D5-83A2-66F3264F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5E17-B565-4792-95D0-FF2452A8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324E-7DDF-4B78-AAEA-BC03AF12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35FF-9B64-4F04-9D09-F1D6143A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0E04-6890-4A32-AB49-67C519DF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E53B-B5D7-41D3-8A77-C3EF9989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C4A5-1347-42A6-8942-07D62237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EDDAD-B9B4-4A6F-8130-CC7758D0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27169-CA0B-48B3-8F90-75903883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B2D5F-5E94-491C-B851-C03DE79F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8ECB5-ED85-45E8-B5D2-8F3EF48D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E1569-A77B-4D67-99D4-921FDF16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044C-C247-414A-8B48-20FEAA4A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FC4F2-139C-43D4-90A2-D928E7BB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E77F6-E0A0-4EF5-A219-172E4269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5B013-3BE2-4090-BC5F-EB182809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D9EA7-5F19-4095-B03F-CAE92833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0E73F-861C-4BA6-90D2-86966F20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5F6DF-027C-46F2-818F-A769D93F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37491-26B1-4195-98B6-8064DAA6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FA2AE-ED82-4181-AD31-9372F3BA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303A8-ECAB-4EA4-A700-908C4B84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E23FE-9DF1-4433-A83A-8A2D02C7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8768-987B-4810-8ED1-CE1B1EB3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D5F25-42F9-44FA-AA86-AA56F488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F20CB-EEEC-486A-8912-C457860A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E4471-71C8-4DF6-B472-A184F54D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F849A-114E-4D45-8FE9-3E13072A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A0F48-A2DE-4CA9-BD6C-9B243575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35523-A434-4E75-9D12-EA0D2D38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1D047-DDEB-44A5-8888-BF810C18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5B870-C929-4FCD-A5D9-EC7E38AD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2FCDC-10C6-4147-BFA3-98D91775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E0AC-D34E-468C-ADB2-6C13C8DD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44C8-666F-4419-AFF7-EA758DEF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5C2F-FA34-414C-A624-465D7ECC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E9C1-36FD-446D-93B2-9AA3F9E7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DF9F-4EB5-4840-B2D9-E1821E4A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E369-3649-4520-BECA-F391E4A5071F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87256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4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907F-9208-4AE9-A97E-DC81D1EA9C1E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87256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3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     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4BE9-D78D-4265-B865-5A4D6EAB21B3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Алгоритмизация и программирование, язык 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Python,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10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8758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4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2477-5069-48C6-983E-40D22BAB1B90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kpolyakov@mail.ru" TargetMode="External"/><Relationship Id="rId2" Type="http://schemas.openxmlformats.org/officeDocument/2006/relationships/hyperlink" Target="mailto:eremin@pspu.ac.ru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cdonalds.com/" TargetMode="External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35240" y="4358880"/>
            <a:ext cx="64735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6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бота с файлам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0FBF-6BA7-4E33-8173-A8303954806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массив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0FCB-D101-4F1B-82B9-428F7594F95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382680" y="801720"/>
            <a:ext cx="846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файле записаны в столбик целые числа. Вывести в другой текстовый файл те же числа, отсортированные в порядке возрас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71"/>
          <p:cNvGrpSpPr/>
          <p:nvPr/>
        </p:nvGrpSpPr>
        <p:grpSpPr>
          <a:xfrm>
            <a:off x="430200" y="2035080"/>
            <a:ext cx="6521400" cy="663480"/>
            <a:chOff x="430200" y="2035080"/>
            <a:chExt cx="6521400" cy="663480"/>
          </a:xfrm>
        </p:grpSpPr>
        <p:sp>
          <p:nvSpPr>
            <p:cNvPr id="258" name="Text Box 69"/>
            <p:cNvSpPr/>
            <p:nvPr/>
          </p:nvSpPr>
          <p:spPr>
            <a:xfrm>
              <a:off x="919080" y="2114280"/>
              <a:ext cx="6032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В чем отличие от предыдущей задач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70"/>
            <p:cNvSpPr/>
            <p:nvPr/>
          </p:nvSpPr>
          <p:spPr>
            <a:xfrm>
              <a:off x="430200" y="2035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71"/>
          <p:cNvGrpSpPr/>
          <p:nvPr/>
        </p:nvGrpSpPr>
        <p:grpSpPr>
          <a:xfrm>
            <a:off x="430200" y="2832120"/>
            <a:ext cx="8196120" cy="904680"/>
            <a:chOff x="430200" y="2832120"/>
            <a:chExt cx="8196120" cy="904680"/>
          </a:xfrm>
        </p:grpSpPr>
        <p:sp>
          <p:nvSpPr>
            <p:cNvPr id="261" name="Text Box 69"/>
            <p:cNvSpPr/>
            <p:nvPr/>
          </p:nvSpPr>
          <p:spPr>
            <a:xfrm>
              <a:off x="919080" y="2911320"/>
              <a:ext cx="77072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Для сортировки нужно удерживать все элементы в памяти одновременно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70"/>
            <p:cNvSpPr/>
            <p:nvPr/>
          </p:nvSpPr>
          <p:spPr>
            <a:xfrm>
              <a:off x="430200" y="2832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массив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C0CB-2BCF-404E-A06C-23825CE92B6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3"/>
          <p:cNvSpPr/>
          <p:nvPr/>
        </p:nvSpPr>
        <p:spPr>
          <a:xfrm>
            <a:off x="397440" y="81900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вод масси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"/>
          <p:cNvSpPr/>
          <p:nvPr/>
        </p:nvSpPr>
        <p:spPr>
          <a:xfrm>
            <a:off x="625320" y="1303200"/>
            <a:ext cx="7948800" cy="2021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Tru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 not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: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append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9"/>
          <p:cNvSpPr/>
          <p:nvPr/>
        </p:nvSpPr>
        <p:spPr>
          <a:xfrm>
            <a:off x="400320" y="3357720"/>
            <a:ext cx="33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вод в стил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yth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"/>
          <p:cNvSpPr/>
          <p:nvPr/>
        </p:nvSpPr>
        <p:spPr>
          <a:xfrm>
            <a:off x="625320" y="3821040"/>
            <a:ext cx="7948800" cy="879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s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1"/>
          <p:cNvSpPr/>
          <p:nvPr/>
        </p:nvSpPr>
        <p:spPr>
          <a:xfrm>
            <a:off x="394920" y="4821120"/>
            <a:ext cx="20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ртиров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"/>
          <p:cNvSpPr/>
          <p:nvPr/>
        </p:nvSpPr>
        <p:spPr>
          <a:xfrm>
            <a:off x="625320" y="5283360"/>
            <a:ext cx="2505240" cy="47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массив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C295-25C6-4BE7-847D-D8A13752347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"/>
          <p:cNvSpPr/>
          <p:nvPr/>
        </p:nvSpPr>
        <p:spPr>
          <a:xfrm>
            <a:off x="400320" y="819000"/>
            <a:ext cx="30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вод результа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625320" y="1303200"/>
            <a:ext cx="7948800" cy="1257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output.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tr(A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lo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6"/>
          <p:cNvSpPr/>
          <p:nvPr/>
        </p:nvSpPr>
        <p:spPr>
          <a:xfrm>
            <a:off x="391320" y="257328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625320" y="3035160"/>
            <a:ext cx="7948800" cy="890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t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+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\n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8"/>
          <p:cNvSpPr/>
          <p:nvPr/>
        </p:nvSpPr>
        <p:spPr>
          <a:xfrm>
            <a:off x="6013800" y="1716120"/>
            <a:ext cx="182664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2, 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9"/>
          <p:cNvSpPr/>
          <p:nvPr/>
        </p:nvSpPr>
        <p:spPr>
          <a:xfrm>
            <a:off x="7524720" y="3071880"/>
            <a:ext cx="363600" cy="11912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0"/>
          <p:cNvSpPr/>
          <p:nvPr/>
        </p:nvSpPr>
        <p:spPr>
          <a:xfrm>
            <a:off x="391320" y="403560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"/>
          <p:cNvSpPr/>
          <p:nvPr/>
        </p:nvSpPr>
        <p:spPr>
          <a:xfrm>
            <a:off x="625320" y="4498920"/>
            <a:ext cx="7948800" cy="890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4d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12"/>
          <p:cNvSpPr/>
          <p:nvPr/>
        </p:nvSpPr>
        <p:spPr>
          <a:xfrm>
            <a:off x="5886360" y="5589720"/>
            <a:ext cx="26877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7966-CC6C-4851-99D6-25ADF1856B5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369720" y="809640"/>
            <a:ext cx="86662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файле в столбик записаны числа. Отсортировать их по возрастанию последней цифры и записать в другой фай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файле в столбик записаны числа. Отсортировать их по возрастанию суммы цифр и записать в другой файл. Используйте функцию, которая вычисляет сумму цифр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двух файлах записаны отсортированные по возрастанию массивы неизвестной длины. Объединить их и записать результат в третий файл. Полученный массив также должен быть отсортирован по возрастан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F342-F968-4A23-B1C4-62EA6708F2B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3"/>
          <p:cNvSpPr/>
          <p:nvPr/>
        </p:nvSpPr>
        <p:spPr>
          <a:xfrm>
            <a:off x="382680" y="801720"/>
            <a:ext cx="846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файле записано данные о собаках: в каждой строчке кличка собаки, ее возраст и по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Мухтар 4 немецкая овчар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ести в другой файл сведения о собаках, которым меньше 5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"/>
          <p:cNvSpPr/>
          <p:nvPr/>
        </p:nvSpPr>
        <p:spPr>
          <a:xfrm>
            <a:off x="625320" y="2851200"/>
            <a:ext cx="7948800" cy="1954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не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онец файла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прочитать строку из файла 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азобрать строку – выделить 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если возраст &lt;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записать строку в файл F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ение данных из фай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18CF-0F51-49DF-85D1-129E7291486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5"/>
          <p:cNvSpPr/>
          <p:nvPr/>
        </p:nvSpPr>
        <p:spPr>
          <a:xfrm>
            <a:off x="400320" y="819000"/>
            <a:ext cx="34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ение одной стро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"/>
          <p:cNvSpPr/>
          <p:nvPr/>
        </p:nvSpPr>
        <p:spPr>
          <a:xfrm>
            <a:off x="625320" y="1235160"/>
            <a:ext cx="7948800" cy="485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14"/>
          <p:cNvSpPr/>
          <p:nvPr/>
        </p:nvSpPr>
        <p:spPr>
          <a:xfrm>
            <a:off x="402120" y="174456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збивка по пробел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"/>
          <p:cNvSpPr/>
          <p:nvPr/>
        </p:nvSpPr>
        <p:spPr>
          <a:xfrm>
            <a:off x="625320" y="2160720"/>
            <a:ext cx="7948800" cy="485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7"/>
          <p:cNvSpPr/>
          <p:nvPr/>
        </p:nvSpPr>
        <p:spPr>
          <a:xfrm>
            <a:off x="403200" y="2658960"/>
            <a:ext cx="34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деление возрас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"/>
          <p:cNvSpPr/>
          <p:nvPr/>
        </p:nvSpPr>
        <p:spPr>
          <a:xfrm>
            <a:off x="625320" y="3075120"/>
            <a:ext cx="7948800" cy="850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19"/>
          <p:cNvSpPr/>
          <p:nvPr/>
        </p:nvSpPr>
        <p:spPr>
          <a:xfrm>
            <a:off x="399600" y="392760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ратко всё вмес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"/>
          <p:cNvSpPr/>
          <p:nvPr/>
        </p:nvSpPr>
        <p:spPr>
          <a:xfrm>
            <a:off x="625320" y="4354560"/>
            <a:ext cx="7948800" cy="852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[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DBDE-7FBC-461A-A725-55687B4D0DE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"/>
          <p:cNvSpPr/>
          <p:nvPr/>
        </p:nvSpPr>
        <p:spPr>
          <a:xfrm>
            <a:off x="461880" y="1324080"/>
            <a:ext cx="8423280" cy="3786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output.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Tru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 not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: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4"/>
          <p:cNvSpPr/>
          <p:nvPr/>
        </p:nvSpPr>
        <p:spPr>
          <a:xfrm>
            <a:off x="407880" y="80964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ная програм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7A51-9448-4F40-BEA1-C1A65F19EA0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"/>
          <p:cNvSpPr/>
          <p:nvPr/>
        </p:nvSpPr>
        <p:spPr>
          <a:xfrm>
            <a:off x="461880" y="1324080"/>
            <a:ext cx="8423280" cy="1957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4"/>
          <p:cNvSpPr/>
          <p:nvPr/>
        </p:nvSpPr>
        <p:spPr>
          <a:xfrm>
            <a:off x="399240" y="80964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"/>
          <p:cNvSpPr/>
          <p:nvPr/>
        </p:nvSpPr>
        <p:spPr>
          <a:xfrm>
            <a:off x="461880" y="3895560"/>
            <a:ext cx="8423280" cy="1570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6"/>
          <p:cNvSpPr/>
          <p:nvPr/>
        </p:nvSpPr>
        <p:spPr>
          <a:xfrm>
            <a:off x="399240" y="338148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AAF5-D841-4D9D-BCEB-274CBDCC94F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369720" y="809640"/>
            <a:ext cx="86662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файле записаны данные о результатах сдачи экзамена. Каждая строка содержит фамилию, имя и количество баллов, разделенные пробелам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Фамилия&gt; &lt;Имя&gt; &lt;Количество баллов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ести в другой файл фамилии и имена тех учеников, которые получили больше 80 балл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едыдущей задаче добавить к полученному списку нумерацию, сократить имя до одной буквы и поставить перед фамилие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П. Ива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И. Пет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3794-93F8-44BD-994E-055F0295F7D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369720" y="809640"/>
            <a:ext cx="8666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файле записаны данные о результатах сдачи экзамена. Каждая строка содержит фамилию, имя и количество баллов, разделенные пробелам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Фамилия&gt; &lt;Имя&gt; &lt;Количество баллов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ести в другой файл данные учеников, которые получили больше 80 баллов.  Список должен быть отсортирован по убыванию балла. Формат выходных данных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П. Иванов</a:t>
            </a: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 9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И. Петров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9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работать с файлам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5EE5-B4D4-435A-A6D9-CEB56FFCA02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5"/>
          <p:cNvSpPr/>
          <p:nvPr/>
        </p:nvSpPr>
        <p:spPr>
          <a:xfrm>
            <a:off x="2970360" y="1004760"/>
            <a:ext cx="2317680" cy="59688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й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6"/>
          <p:cNvSpPr/>
          <p:nvPr/>
        </p:nvSpPr>
        <p:spPr>
          <a:xfrm>
            <a:off x="968400" y="2254320"/>
            <a:ext cx="2317680" cy="59688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4970520" y="2254320"/>
            <a:ext cx="2317680" cy="59688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ои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Блок-схема: процесс 8"/>
          <p:cNvSpPr/>
          <p:nvPr/>
        </p:nvSpPr>
        <p:spPr>
          <a:xfrm>
            <a:off x="407880" y="2906640"/>
            <a:ext cx="4191120" cy="2017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plain tex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, разбитый на стро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специальных символов только символы перехода на новую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Блок-схема: процесс 9"/>
          <p:cNvSpPr/>
          <p:nvPr/>
        </p:nvSpPr>
        <p:spPr>
          <a:xfrm>
            <a:off x="4843440" y="2906640"/>
            <a:ext cx="4192560" cy="2017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ые симв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ки, звуки, видео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Группа 12"/>
          <p:cNvGrpSpPr/>
          <p:nvPr/>
        </p:nvGrpSpPr>
        <p:grpSpPr>
          <a:xfrm>
            <a:off x="2743200" y="1601640"/>
            <a:ext cx="2589120" cy="652680"/>
            <a:chOff x="2743200" y="1601640"/>
            <a:chExt cx="2589120" cy="652680"/>
          </a:xfrm>
        </p:grpSpPr>
        <p:sp>
          <p:nvSpPr>
            <p:cNvPr id="187" name="Полилиния 10"/>
            <p:cNvSpPr/>
            <p:nvPr/>
          </p:nvSpPr>
          <p:spPr>
            <a:xfrm>
              <a:off x="2743200" y="1601640"/>
              <a:ext cx="1294560" cy="652680"/>
            </a:xfrm>
            <a:custGeom>
              <a:avLst/>
              <a:gdLst>
                <a:gd name="textAreaLeft" fmla="*/ 0 w 1294560"/>
                <a:gd name="textAreaRight" fmla="*/ 1294920 w 1294560"/>
                <a:gd name="textAreaTop" fmla="*/ 0 h 652680"/>
                <a:gd name="textAreaBottom" fmla="*/ 652680 h 652680"/>
              </a:gdLst>
              <a:ahLst/>
              <a:rect l="textAreaLeft" t="textAreaTop" r="textAreaRight" b="textAreaBottom"/>
              <a:pathLst>
                <a:path w="1294646" h="651850">
                  <a:moveTo>
                    <a:pt x="1294646" y="0"/>
                  </a:moveTo>
                  <a:lnTo>
                    <a:pt x="0" y="6518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Полилиния 11"/>
            <p:cNvSpPr/>
            <p:nvPr/>
          </p:nvSpPr>
          <p:spPr>
            <a:xfrm flipH="1">
              <a:off x="4037760" y="1601640"/>
              <a:ext cx="1294560" cy="652680"/>
            </a:xfrm>
            <a:custGeom>
              <a:avLst/>
              <a:gdLst>
                <a:gd name="textAreaLeft" fmla="*/ 360 w 1294560"/>
                <a:gd name="textAreaRight" fmla="*/ 1295280 w 1294560"/>
                <a:gd name="textAreaTop" fmla="*/ 0 h 652680"/>
                <a:gd name="textAreaBottom" fmla="*/ 652680 h 652680"/>
              </a:gdLst>
              <a:ahLst/>
              <a:rect l="textAreaLeft" t="textAreaTop" r="textAreaRight" b="textAreaBottom"/>
              <a:pathLst>
                <a:path w="1294646" h="651850">
                  <a:moveTo>
                    <a:pt x="1294646" y="0"/>
                  </a:moveTo>
                  <a:lnTo>
                    <a:pt x="0" y="6518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A8E2-D75D-4575-9C5A-8798E3BD12E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4"/>
          <p:cNvSpPr/>
          <p:nvPr/>
        </p:nvSpPr>
        <p:spPr>
          <a:xfrm>
            <a:off x="162000" y="1676520"/>
            <a:ext cx="88200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ЯКОВ Константин Ю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т.н., учитель инфор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СОШ № 163, г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kpolyakov@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РЕМИН Евгений Александ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.ф.-м.н., доцент кафедры мультимедийной дидактики и ИТО ПГГПУ, г. Перм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eremin@pspu.ac.r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точники иллюст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15B5-65C9-4CD6-BFDF-58AE6C9CAD4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3"/>
          <p:cNvSpPr/>
          <p:nvPr/>
        </p:nvSpPr>
        <p:spPr>
          <a:xfrm>
            <a:off x="392040" y="812880"/>
            <a:ext cx="808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www.mcdonalds.com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люстрации художников издательства «Бин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ские мат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нцип сэндвич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92D1-CCDB-436E-9F77-200AB626B60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Группа 33"/>
          <p:cNvGrpSpPr/>
          <p:nvPr/>
        </p:nvGrpSpPr>
        <p:grpSpPr>
          <a:xfrm>
            <a:off x="5395680" y="1111320"/>
            <a:ext cx="2549880" cy="357120"/>
            <a:chOff x="5395680" y="1111320"/>
            <a:chExt cx="2549880" cy="357120"/>
          </a:xfrm>
        </p:grpSpPr>
        <p:sp>
          <p:nvSpPr>
            <p:cNvPr id="193" name="Text Box 10"/>
            <p:cNvSpPr/>
            <p:nvPr/>
          </p:nvSpPr>
          <p:spPr>
            <a:xfrm>
              <a:off x="5871600" y="1111320"/>
              <a:ext cx="20739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открыть фай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9"/>
            <p:cNvSpPr/>
            <p:nvPr/>
          </p:nvSpPr>
          <p:spPr>
            <a:xfrm flipV="1" rot="16200000">
              <a:off x="5487480" y="1092960"/>
              <a:ext cx="221400" cy="405000"/>
            </a:xfrm>
            <a:prstGeom prst="downArrow">
              <a:avLst>
                <a:gd name="adj1" fmla="val 40000"/>
                <a:gd name="adj2" fmla="val 69732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Группа 34"/>
          <p:cNvGrpSpPr/>
          <p:nvPr/>
        </p:nvGrpSpPr>
        <p:grpSpPr>
          <a:xfrm>
            <a:off x="5395680" y="1744560"/>
            <a:ext cx="2754720" cy="357120"/>
            <a:chOff x="5395680" y="1744560"/>
            <a:chExt cx="2754720" cy="357120"/>
          </a:xfrm>
        </p:grpSpPr>
        <p:sp>
          <p:nvSpPr>
            <p:cNvPr id="196" name="AutoShape 8"/>
            <p:cNvSpPr/>
            <p:nvPr/>
          </p:nvSpPr>
          <p:spPr>
            <a:xfrm flipV="1" rot="16200000">
              <a:off x="5487480" y="1712520"/>
              <a:ext cx="221400" cy="405000"/>
            </a:xfrm>
            <a:prstGeom prst="downArrow">
              <a:avLst>
                <a:gd name="adj1" fmla="val 40000"/>
                <a:gd name="adj2" fmla="val 69732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6"/>
            <p:cNvSpPr/>
            <p:nvPr/>
          </p:nvSpPr>
          <p:spPr>
            <a:xfrm>
              <a:off x="5871600" y="1744560"/>
              <a:ext cx="22788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работа с  файло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Группа 35"/>
          <p:cNvGrpSpPr/>
          <p:nvPr/>
        </p:nvGrpSpPr>
        <p:grpSpPr>
          <a:xfrm>
            <a:off x="5395680" y="2351160"/>
            <a:ext cx="2445120" cy="355680"/>
            <a:chOff x="5395680" y="2351160"/>
            <a:chExt cx="2445120" cy="355680"/>
          </a:xfrm>
        </p:grpSpPr>
        <p:sp>
          <p:nvSpPr>
            <p:cNvPr id="199" name="AutoShape 7"/>
            <p:cNvSpPr/>
            <p:nvPr/>
          </p:nvSpPr>
          <p:spPr>
            <a:xfrm flipV="1" rot="16200000">
              <a:off x="5487840" y="2332440"/>
              <a:ext cx="220320" cy="405000"/>
            </a:xfrm>
            <a:prstGeom prst="downArrow">
              <a:avLst>
                <a:gd name="adj1" fmla="val 40000"/>
                <a:gd name="adj2" fmla="val 70074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5"/>
            <p:cNvSpPr/>
            <p:nvPr/>
          </p:nvSpPr>
          <p:spPr>
            <a:xfrm>
              <a:off x="5871600" y="2351160"/>
              <a:ext cx="19692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закрыть фай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4"/>
          <p:cNvSpPr/>
          <p:nvPr/>
        </p:nvSpPr>
        <p:spPr>
          <a:xfrm>
            <a:off x="939960" y="1174680"/>
            <a:ext cx="865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хле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39960" y="2298600"/>
            <a:ext cx="865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хле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615960" y="1736640"/>
            <a:ext cx="11253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ч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5" descr=""/>
          <p:cNvPicPr/>
          <p:nvPr/>
        </p:nvPicPr>
        <p:blipFill>
          <a:blip r:embed="rId1"/>
          <a:srcRect l="0" t="0" r="1536" b="3465"/>
          <a:stretch/>
        </p:blipFill>
        <p:spPr>
          <a:xfrm>
            <a:off x="1928880" y="2101680"/>
            <a:ext cx="3316320" cy="858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4" descr=""/>
          <p:cNvPicPr/>
          <p:nvPr/>
        </p:nvPicPr>
        <p:blipFill>
          <a:blip r:embed="rId2"/>
          <a:stretch/>
        </p:blipFill>
        <p:spPr>
          <a:xfrm>
            <a:off x="2014560" y="1017720"/>
            <a:ext cx="3224160" cy="582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4" descr=""/>
          <p:cNvPicPr/>
          <p:nvPr/>
        </p:nvPicPr>
        <p:blipFill>
          <a:blip r:embed="rId3"/>
          <a:stretch/>
        </p:blipFill>
        <p:spPr>
          <a:xfrm>
            <a:off x="1936800" y="1481040"/>
            <a:ext cx="3405240" cy="10940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35"/>
          <p:cNvSpPr/>
          <p:nvPr/>
        </p:nvSpPr>
        <p:spPr>
          <a:xfrm>
            <a:off x="896760" y="3877200"/>
            <a:ext cx="74692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output.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здесь работаем с фай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ая прямоугольная выноска 36"/>
          <p:cNvSpPr/>
          <p:nvPr/>
        </p:nvSpPr>
        <p:spPr>
          <a:xfrm>
            <a:off x="376200" y="2968560"/>
            <a:ext cx="3762360" cy="770040"/>
          </a:xfrm>
          <a:prstGeom prst="wedgeRoundRectCallout">
            <a:avLst>
              <a:gd name="adj1" fmla="val -25231"/>
              <a:gd name="adj2" fmla="val 7587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йловые переменные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казат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21"/>
          <p:cNvSpPr/>
          <p:nvPr/>
        </p:nvSpPr>
        <p:spPr>
          <a:xfrm>
            <a:off x="5628240" y="5075280"/>
            <a:ext cx="310680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r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чт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за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б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олилиния 22"/>
          <p:cNvSpPr/>
          <p:nvPr/>
        </p:nvSpPr>
        <p:spPr>
          <a:xfrm>
            <a:off x="6283440" y="4603680"/>
            <a:ext cx="311040" cy="549360"/>
          </a:xfrm>
          <a:custGeom>
            <a:avLst/>
            <a:gdLst>
              <a:gd name="textAreaLeft" fmla="*/ 0 w 311040"/>
              <a:gd name="textAreaRight" fmla="*/ 311400 w 311040"/>
              <a:gd name="textAreaTop" fmla="*/ 0 h 549360"/>
              <a:gd name="textAreaBottom" fmla="*/ 549360 h 549360"/>
            </a:gdLst>
            <a:ahLst/>
            <a:rect l="textAreaLeft" t="textAreaTop" r="textAreaRight" b="textAreaBottom"/>
            <a:pathLst>
              <a:path w="606055" h="765544">
                <a:moveTo>
                  <a:pt x="0" y="765544"/>
                </a:moveTo>
                <a:cubicBezTo>
                  <a:pt x="31898" y="510363"/>
                  <a:pt x="606055" y="414669"/>
                  <a:pt x="95693" y="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ая прямоугольная выноска 23"/>
          <p:cNvSpPr/>
          <p:nvPr/>
        </p:nvSpPr>
        <p:spPr>
          <a:xfrm>
            <a:off x="4506840" y="2968560"/>
            <a:ext cx="3762360" cy="770040"/>
          </a:xfrm>
          <a:prstGeom prst="wedgeRoundRectCallout">
            <a:avLst>
              <a:gd name="adj1" fmla="val -33810"/>
              <a:gd name="adj2" fmla="val 7587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умолчанию – на чтение (режим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r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D7B0-FFE1-4FAB-A6BF-DA130728EBC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5"/>
          <p:cNvSpPr/>
          <p:nvPr/>
        </p:nvSpPr>
        <p:spPr>
          <a:xfrm>
            <a:off x="561960" y="888480"/>
            <a:ext cx="7469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pen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xt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5"/>
          <p:cNvSpPr/>
          <p:nvPr/>
        </p:nvSpPr>
        <p:spPr>
          <a:xfrm>
            <a:off x="561960" y="1856880"/>
            <a:ext cx="7469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"1 2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13"/>
          <p:cNvSpPr/>
          <p:nvPr/>
        </p:nvSpPr>
        <p:spPr>
          <a:xfrm>
            <a:off x="396000" y="1400040"/>
            <a:ext cx="24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ение стро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4"/>
          <p:cNvSpPr/>
          <p:nvPr/>
        </p:nvSpPr>
        <p:spPr>
          <a:xfrm>
            <a:off x="412920" y="2389320"/>
            <a:ext cx="62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ение строки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разбивка по пробел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5"/>
          <p:cNvSpPr/>
          <p:nvPr/>
        </p:nvSpPr>
        <p:spPr>
          <a:xfrm>
            <a:off x="561960" y="2888640"/>
            <a:ext cx="8356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["1","2"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6"/>
          <p:cNvSpPr/>
          <p:nvPr/>
        </p:nvSpPr>
        <p:spPr>
          <a:xfrm>
            <a:off x="401040" y="33796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ение целых чисе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5"/>
          <p:cNvSpPr/>
          <p:nvPr/>
        </p:nvSpPr>
        <p:spPr>
          <a:xfrm>
            <a:off x="561960" y="3837600"/>
            <a:ext cx="83566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["1","2"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[0])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[1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8"/>
          <p:cNvSpPr/>
          <p:nvPr/>
        </p:nvSpPr>
        <p:spPr>
          <a:xfrm>
            <a:off x="391320" y="469260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561960" y="5147640"/>
            <a:ext cx="8356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= [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0"/>
          <p:cNvSpPr/>
          <p:nvPr/>
        </p:nvSpPr>
        <p:spPr>
          <a:xfrm>
            <a:off x="391320" y="556272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5"/>
          <p:cNvSpPr/>
          <p:nvPr/>
        </p:nvSpPr>
        <p:spPr>
          <a:xfrm>
            <a:off x="561960" y="6019200"/>
            <a:ext cx="8356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данных в фай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9ED6-461F-45D5-8811-D9112E12334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5"/>
          <p:cNvSpPr/>
          <p:nvPr/>
        </p:nvSpPr>
        <p:spPr>
          <a:xfrm>
            <a:off x="471600" y="913680"/>
            <a:ext cx="8353440" cy="2364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output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d} + {:d} = {:d}\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+b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.close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71"/>
          <p:cNvGrpSpPr/>
          <p:nvPr/>
        </p:nvGrpSpPr>
        <p:grpSpPr>
          <a:xfrm>
            <a:off x="933480" y="3468600"/>
            <a:ext cx="7188120" cy="663480"/>
            <a:chOff x="933480" y="3468600"/>
            <a:chExt cx="7188120" cy="663480"/>
          </a:xfrm>
        </p:grpSpPr>
        <p:sp>
          <p:nvSpPr>
            <p:cNvPr id="229" name="Text Box 69"/>
            <p:cNvSpPr/>
            <p:nvPr/>
          </p:nvSpPr>
          <p:spPr>
            <a:xfrm>
              <a:off x="1422360" y="3547800"/>
              <a:ext cx="669924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Все данные преобразовать в строку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70"/>
            <p:cNvSpPr/>
            <p:nvPr/>
          </p:nvSpPr>
          <p:spPr>
            <a:xfrm>
              <a:off x="933480" y="34686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ение неизвестного количества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72FD-89BD-4CF2-95E7-EFABC712653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5"/>
          <p:cNvSpPr/>
          <p:nvPr/>
        </p:nvSpPr>
        <p:spPr>
          <a:xfrm>
            <a:off x="471600" y="1667880"/>
            <a:ext cx="746892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не конец фай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прочитать число из фай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добавить его к сум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4"/>
          <p:cNvSpPr/>
          <p:nvPr/>
        </p:nvSpPr>
        <p:spPr>
          <a:xfrm>
            <a:off x="382680" y="801720"/>
            <a:ext cx="84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файле записано в столбик неизвестное количество чисел. Найти их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5"/>
          <p:cNvSpPr/>
          <p:nvPr/>
        </p:nvSpPr>
        <p:spPr>
          <a:xfrm>
            <a:off x="471600" y="3296520"/>
            <a:ext cx="746892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ru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 no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: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lo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ая прямоугольная выноска 9"/>
          <p:cNvSpPr/>
          <p:nvPr/>
        </p:nvSpPr>
        <p:spPr>
          <a:xfrm>
            <a:off x="4643280" y="3948120"/>
            <a:ext cx="3764160" cy="770040"/>
          </a:xfrm>
          <a:prstGeom prst="wedgeRoundRectCallout">
            <a:avLst>
              <a:gd name="adj1" fmla="val -66648"/>
              <a:gd name="adj2" fmla="val 3931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конец файла, вернёт пустую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ение неизвестного количества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EF0B-AA4B-4D12-A023-10D5F926C86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4"/>
          <p:cNvSpPr/>
          <p:nvPr/>
        </p:nvSpPr>
        <p:spPr>
          <a:xfrm>
            <a:off x="382680" y="801720"/>
            <a:ext cx="84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файле записано в столбик неизвестное количество чисел. Найти их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5"/>
          <p:cNvSpPr/>
          <p:nvPr/>
        </p:nvSpPr>
        <p:spPr>
          <a:xfrm>
            <a:off x="471600" y="1798920"/>
            <a:ext cx="74689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lo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ая прямоугольная выноска 7"/>
          <p:cNvSpPr/>
          <p:nvPr/>
        </p:nvSpPr>
        <p:spPr>
          <a:xfrm>
            <a:off x="4159080" y="3065400"/>
            <a:ext cx="3764160" cy="770040"/>
          </a:xfrm>
          <a:prstGeom prst="wedgeRoundRectCallout">
            <a:avLst>
              <a:gd name="adj1" fmla="val -72365"/>
              <a:gd name="adj2" fmla="val -6547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ть все строки в список ст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ение неизвестного количества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F46A-5133-4DE0-99CC-EEAD234C2B5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382680" y="801720"/>
            <a:ext cx="84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файле записано в столбик неизвестное количество чисел. Найти их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5"/>
          <p:cNvSpPr/>
          <p:nvPr/>
        </p:nvSpPr>
        <p:spPr>
          <a:xfrm>
            <a:off x="471600" y="1795680"/>
            <a:ext cx="74689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wit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in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71"/>
          <p:cNvGrpSpPr/>
          <p:nvPr/>
        </p:nvGrpSpPr>
        <p:grpSpPr>
          <a:xfrm>
            <a:off x="1547640" y="5389560"/>
            <a:ext cx="5467320" cy="663480"/>
            <a:chOff x="1547640" y="5389560"/>
            <a:chExt cx="5467320" cy="663480"/>
          </a:xfrm>
        </p:grpSpPr>
        <p:sp>
          <p:nvSpPr>
            <p:cNvPr id="247" name="Text Box 69"/>
            <p:cNvSpPr/>
            <p:nvPr/>
          </p:nvSpPr>
          <p:spPr>
            <a:xfrm>
              <a:off x="2036520" y="5468760"/>
              <a:ext cx="497844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Не нужно закрывать файл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70"/>
            <p:cNvSpPr/>
            <p:nvPr/>
          </p:nvSpPr>
          <p:spPr>
            <a:xfrm>
              <a:off x="1547640" y="53895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Прямоугольник 13"/>
          <p:cNvSpPr/>
          <p:nvPr/>
        </p:nvSpPr>
        <p:spPr>
          <a:xfrm>
            <a:off x="391320" y="338760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5"/>
          <p:cNvSpPr/>
          <p:nvPr/>
        </p:nvSpPr>
        <p:spPr>
          <a:xfrm>
            <a:off x="471600" y="3898440"/>
            <a:ext cx="74689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in</a:t>
            </a:r>
            <a:r>
              <a:rPr b="1" lang="ru-RU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87B5-86E1-49D0-B668-7290A1585F1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369720" y="809640"/>
            <a:ext cx="8666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среднее арифметическое всех чисел, записанных в файле в столбик, и выводит результат в другой фай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минимальное и максимальное среди чётных положительных чисел, записанных в файле, и выводит результат в другой файл. Учтите, что таких чисел может вообще не бы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файле в столбик записаны целые числа, сколько их – неизвестно. Напишите программу, которая определяет длину самой длинной цепочки идущих подряд одинаковых чисел и выводит результат в другой фай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555</cp:lastModifiedBy>
  <dcterms:modified xsi:type="dcterms:W3CDTF">2023-04-06T09:14:43Z</dcterms:modified>
  <cp:revision>1794</cp:revision>
  <dc:subject/>
  <dc:title>Программное обеспечение (ПО)</dc:title>
</cp:coreProperties>
</file>